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208A-A2BB-4BE8-BDF8-530132C6E2F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6685-A6AB-44DC-A92D-7F16629AC6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3265-6483-40C9-9317-A713A24BF3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9527-716C-4C95-8E16-346685A3BA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892-D73F-4650-9B7C-02AFC3CA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E24-4FB6-4BD4-8F03-CF84977E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769-19C4-40E1-A638-0F161BDA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DB75-A138-43DF-ACB1-EB693CA8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F527-C536-482E-83F9-6D383D51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1711-9411-46CC-A27C-7FC99964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ADE1-DAEB-41CB-8238-C38B25F8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F112-AAE1-42C2-BE40-49C5228B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6DBF-F19D-469C-8D89-1794CED6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AA9D-2A3F-4291-9EF4-842144A4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7B34-C0C5-4A0C-8DA1-8CB74230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11A-CE42-4B1C-BC1D-9352113A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A2DC-06AE-4D64-8711-B583AFE8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24DC-7D4A-44F1-A1AE-FB83ED0E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FEB3-F536-4BA8-B081-7F0682AD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EE95-DAA3-484B-BC87-68033879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3904-A203-4722-BBC0-216EE9E9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0D41C-5090-4E98-B0DD-A78E1518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73E5C-F81D-4CD5-AC0D-45BA879B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6DA84-3F1B-43A5-B0E9-2C0C894D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75DDD-39AC-4646-AF52-D359BBE2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53952-8F47-4D23-B6C7-D217468E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413-7B82-49C4-8E6A-78329389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176C8-A96B-4AFB-9589-6539E2BA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210BE-26F3-4711-AD49-0881EB7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F7539-12CA-462B-984E-D4DF480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09C61-C167-43F0-8D9F-5F16670F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921AA-81FE-44EC-A026-3247F8FB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83171-746A-4ECF-88B3-70A4A100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95A8C-8B3D-4A35-9A83-A0D5EEA0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35135-8B06-4C89-8D9C-AB7006DF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D0D04-3D5A-4343-B4C7-C625C189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98B27-72EF-4555-8C61-DEE5B784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BB2-6B8B-4933-B3CC-929FFD01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BA4F8-41BD-4E2A-B3DE-4A0C76CD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29B2C-EB8D-4BF4-A946-7A23CBE3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97B2A-4470-49F4-AC40-28B9BAB6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D4A1B9-4A64-416C-81DC-F530C345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4841D-EA55-4FF8-A404-D228C4AA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1B82E-208B-4D68-870D-4FD9E476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F9868-0896-4ABA-AB11-204D9C2B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68BCC-D7FF-46BD-9F33-B2EE5AEB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8F0FB-ABF4-4516-86D2-CC13B02E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85E33-B226-416F-B18E-AB9F7E42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A16-4C20-4B81-A5CF-B64AC425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2EA6F-D68B-4941-AE51-EE599F7D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9321A-FD99-430B-8D0D-4550C84D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F2710-2DDB-468E-8A73-8ADAEFF8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004C7-206F-453E-B71A-24EC9818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92B14-CEE1-4679-9996-CB8EFA6F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FA66B-9558-455E-91A5-18C923C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233C5-631C-44DA-A8BE-ED087454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FAB9A-24E2-4F79-828A-9B9BD12D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F6C57-CCF8-4F4E-A149-85B1CCB1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8885A-69B2-465B-8880-3BF9E78D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ACD-91B6-424D-87D5-9AD17AEB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132AA-6C77-4F9E-9BC9-3F908C92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0EACA-1578-44B9-9EC9-510E51E2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E1BF3-4190-45FD-9B32-B1267816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E1454-E688-4800-8077-8659E619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BDA51-6587-4056-8703-90E8D559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3B938-FD9C-47F3-A57E-9B315D4A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5746-35DA-4426-B867-1A69DA94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A9B15-25ED-4FAD-9ED7-C43E6A56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3D240-9C12-46E0-9B72-023C3FBE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466FF-D969-4C44-9FF5-4B053B4D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516-9BBC-4827-B1BD-AAC16412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948BD-6EF9-40AD-87BC-5A9ED409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0192-6660-4E44-8CED-ABD1693A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6AAE9-4FF8-423F-B642-8F83F5D8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ED0D2-61F2-4E91-B218-A4850268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11343-7D53-4EAE-8E5C-81FD1147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208FE-05E7-42F6-8227-B2EE5698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5B304-5903-4576-9CF6-C2785DB4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E6276-9160-432C-AE0D-FF95A4B1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C67B4-BAAF-48E9-9185-7840D99F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249FF-C640-49BC-8158-3BA4E4C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8CA-990B-425B-90C7-B7F1BC6D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BE8C5-63FA-41E9-AEDF-FDF1C106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75B74-DC70-44C3-B4F0-4F55CF44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D0F25-A644-434D-B8D3-E02A935E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FE695-9B21-4BC2-AB68-1BB3FA9F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7775C-70A7-493A-93AF-DACD8954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4D599-5FCA-4006-A647-239A58E3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9CE54-3198-448A-9EB5-7EBDFDD2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9722D-1BB0-492D-AE36-73D9D8CE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E85A2-AB45-4D48-AA5A-AB53B718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D11D5-4E6D-4BCD-B1DD-BEA15ABF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F19-C4CC-4D29-9E8D-BC70F959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7F320-13AB-4471-8B2B-0DDB7801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07814-4FED-475F-B824-42DCB6E5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E7A2B-F2B2-49F0-859C-6CEFCE33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0D0E5-8F26-43CA-BA0E-CED5EAB0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F202B-D0E1-4F1D-A637-5C135FE6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B188A-A0BC-464D-B912-9E44B29C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E3F5C-680F-437B-A672-238D1884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tango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tango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tango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1A51-7973-477C-B4EF-6EA45E08866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tango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tango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9e5dc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6B35-A196-408E-B8F2-ADF4A68A2630}" type="slidenum">
              <a:rPr b="1" lang="en-US" sz="1400" spc="-1" strike="noStrike">
                <a:solidFill>
                  <a:srgbClr val="e9e5dc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tango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ttango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tango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7127-74C8-4220-97C5-FBDA73F16C30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tango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tango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4AD5-9710-4CD3-BD7F-8A7348C632B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tango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tango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tango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60B0-6696-4519-9B19-BFA8E659044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C169-CB61-495B-961E-299E9C433DE0}" type="slidenum">
              <a:rPr b="1" lang="en-US" sz="1400" spc="-1" strike="noStrike">
                <a:solidFill>
                  <a:srgbClr val="696464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tango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tango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tango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ttangolo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AF47-E019-492F-A2AE-CD058627F3D7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tango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tango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tango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FD2F-C5B9-4358-B4CC-90498E1B101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260280"/>
            <a:ext cx="6476760" cy="3960720"/>
          </a:xfrm>
          <a:prstGeom prst="rect">
            <a:avLst/>
          </a:prstGeom>
          <a:noFill/>
          <a:ln w="9360">
            <a:solidFill>
              <a:srgbClr val="918485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9e5dc"/>
                </a:solidFill>
                <a:latin typeface="Tw Cen MT"/>
              </a:rPr>
              <a:t>GLI ADOLESCENTI DELLE NUOVE GENERAZIONI A SCUOLA</a:t>
            </a:r>
            <a:br>
              <a:rPr sz="4400"/>
            </a:br>
            <a:r>
              <a:rPr b="1" i="1" lang="it-IT" sz="2800" spc="-1" strike="noStrike">
                <a:solidFill>
                  <a:srgbClr val="e9e5dc"/>
                </a:solidFill>
                <a:latin typeface="Tw Cen MT"/>
              </a:rPr>
              <a:t>LE RELAZIONI CON L’ALTRO E I PERCORSI DI INTEGRAZIONE</a:t>
            </a:r>
            <a:br>
              <a:rPr sz="2700"/>
            </a:br>
            <a:br>
              <a:rPr sz="2700"/>
            </a:br>
            <a:r>
              <a:rPr b="1" lang="it-IT" sz="2700" spc="-1" strike="noStrike">
                <a:solidFill>
                  <a:srgbClr val="e9e5dc"/>
                </a:solidFill>
                <a:latin typeface="Tw Cen MT"/>
              </a:rPr>
              <a:t>ELENA BESOZZI</a:t>
            </a:r>
            <a:endParaRPr b="0" lang="en-US" sz="27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w Cen MT"/>
              </a:rPr>
              <a:t>Convegno Cinformi “Come equilibristi”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w Cen MT"/>
              </a:rPr>
              <a:t>Trento, 27 e 28 settembre 2013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153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Sviluppo di un approccio…</a:t>
            </a:r>
            <a:br>
              <a:rPr sz="2800"/>
            </a:b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w Cen MT"/>
              </a:rPr>
              <a:t>- dinamico,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w Cen MT"/>
              </a:rPr>
              <a:t>- transnazionale,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w Cen MT"/>
              </a:rPr>
              <a:t>- plurimo e differenziato</a:t>
            </a:r>
            <a:br>
              <a:rPr sz="2800"/>
            </a:b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	</a:t>
            </a: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	</a:t>
            </a: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dell’identità, dell’appartenenza, </a:t>
            </a: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	</a:t>
            </a: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  </a:t>
            </a: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	</a:t>
            </a: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dell’integrazione …</a:t>
            </a:r>
            <a:br>
              <a:rPr sz="3600"/>
            </a:b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	</a:t>
            </a: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	</a:t>
            </a: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    </a:t>
            </a:r>
            <a:r>
              <a:rPr b="1" lang="it-IT" sz="3600" spc="-1" strike="noStrike">
                <a:solidFill>
                  <a:srgbClr val="7030a0"/>
                </a:solidFill>
                <a:latin typeface="Tw Cen MT"/>
              </a:rPr>
              <a:t>che mette TUTTI IN GIOCO …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332000" y="1628640"/>
            <a:ext cx="76197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w Cen MT"/>
                <a:ea typeface="Verdana"/>
              </a:rPr>
              <a:t>La presenza di alunni con cittadinanza non italiana a scuola: le classi multietniche tra 1a e 2a generazione </a:t>
            </a:r>
            <a:endParaRPr b="0" lang="en-US" sz="2400" spc="-1" strike="noStrike">
              <a:solidFill>
                <a:srgbClr val="696464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1547640" y="0"/>
          <a:ext cx="6096240" cy="6686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9764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Alunni con cittadinanza non italiana. Vari an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nno scolas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V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907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907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% sulla popolazione scolastica comple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983/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.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988/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1.7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993/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7.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998/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5.5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3/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82.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8/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629.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57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11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755.9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Alunni con cittadinanza non italiana per regione e livello scolastico (valori assoluti e </a:t>
            </a:r>
            <a:r>
              <a:rPr b="1" i="1" lang="it-IT" sz="2400" spc="-1" strike="noStrike">
                <a:solidFill>
                  <a:srgbClr val="c00000"/>
                </a:solidFill>
                <a:latin typeface="Tw Cen MT"/>
              </a:rPr>
              <a:t>per 100 alunni in totale) </a:t>
            </a:r>
            <a:br>
              <a:rPr sz="2400"/>
            </a:br>
            <a:r>
              <a:rPr b="1" i="1" lang="it-IT" sz="2400" spc="-1" strike="noStrike">
                <a:solidFill>
                  <a:srgbClr val="c00000"/>
                </a:solidFill>
                <a:latin typeface="Tw Cen MT"/>
              </a:rPr>
              <a:t> A.S. 2011/2012</a:t>
            </a:r>
            <a:endParaRPr b="0" lang="en-US" sz="2400" spc="-1" strike="noStrike">
              <a:solidFill>
                <a:srgbClr val="696464"/>
              </a:solidFill>
              <a:latin typeface="Tw Cen MT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12720" y="1600200"/>
          <a:ext cx="8153280" cy="4541760"/>
        </p:xfrm>
        <a:graphic>
          <a:graphicData uri="http://schemas.openxmlformats.org/drawingml/2006/table">
            <a:tbl>
              <a:tblPr/>
              <a:tblGrid>
                <a:gridCol w="1165320"/>
                <a:gridCol w="1163520"/>
                <a:gridCol w="1165320"/>
                <a:gridCol w="1165320"/>
                <a:gridCol w="1164960"/>
                <a:gridCol w="1163880"/>
                <a:gridCol w="11649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ota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fanz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i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cond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 g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cond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I g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% su 100 alun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iemo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2.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.29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5.4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.31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.0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ombar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84.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.6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7.7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.8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46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entino A.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.7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18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9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4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15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Ven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9.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9.83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9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9.3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.78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milia Romag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6.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.77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56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8.7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.8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t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55.9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6.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8.6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6.0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4.5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Scuole italiane per fasce di incidenza di alunni con cittadinanza non italiana – A.s. 2011/2012</a:t>
            </a:r>
            <a:endParaRPr b="0" lang="en-US" sz="2800" spc="-1" strike="noStrike">
              <a:solidFill>
                <a:srgbClr val="696464"/>
              </a:solidFill>
              <a:latin typeface="Tw Cen MT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39640" y="2637000"/>
          <a:ext cx="8153640" cy="311760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  <a:gridCol w="27180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asce di incidenza degli alunni stranieri sul totale degli alun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A.s. 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V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pres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.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inore del 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2.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ggiore del 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7.6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Verdana"/>
                <a:ea typeface="Verdana"/>
              </a:rPr>
              <a:t>Classi con oltre il 30% di presenza di alunni con Cni, in totale e nati all’estero, in Italia e in alcune regioni</a:t>
            </a:r>
            <a:br>
              <a:rPr sz="1800"/>
            </a:br>
            <a:r>
              <a:rPr b="1" lang="it-IT" sz="1800" spc="-1" strike="noStrike">
                <a:solidFill>
                  <a:srgbClr val="c00000"/>
                </a:solidFill>
                <a:latin typeface="Verdana"/>
                <a:ea typeface="Verdana"/>
              </a:rPr>
              <a:t>Valori percentuali. A.s. 2011/12</a:t>
            </a:r>
            <a:endParaRPr b="0" lang="en-US" sz="1800" spc="-1" strike="noStrike">
              <a:solidFill>
                <a:srgbClr val="696464"/>
              </a:solidFill>
              <a:latin typeface="Tw Cen MT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39640" y="2997360"/>
          <a:ext cx="8153640" cy="276840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  <a:gridCol w="2718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N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all’est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t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ombar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milia Roma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Um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rentino A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86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696464"/>
              </a:solidFill>
              <a:latin typeface="Tw Cen MT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24000" y="1413000"/>
          <a:ext cx="8424720" cy="5216400"/>
        </p:xfrm>
        <a:graphic>
          <a:graphicData uri="http://schemas.openxmlformats.org/drawingml/2006/table">
            <a:tbl>
              <a:tblPr/>
              <a:tblGrid>
                <a:gridCol w="2261880"/>
                <a:gridCol w="1471680"/>
                <a:gridCol w="1414440"/>
                <a:gridCol w="1548000"/>
                <a:gridCol w="1728720"/>
              </a:tblGrid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rdine e grado di istru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V.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Per 100 studen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Per 100 studenti con cittadinanza non ital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fanz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25.9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im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5.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2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econdaria di I g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6.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econdaria di II g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6.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o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34.2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387" name="Rettangolo 4"/>
          <p:cNvSpPr/>
          <p:nvPr/>
        </p:nvSpPr>
        <p:spPr>
          <a:xfrm>
            <a:off x="611280" y="18900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Alunni con cittadinanza non italiana </a:t>
            </a:r>
            <a:r>
              <a:rPr b="1" i="1" lang="it-IT" sz="2000" spc="-1" strike="noStrike">
                <a:solidFill>
                  <a:srgbClr val="c00000"/>
                </a:solidFill>
                <a:latin typeface="Verdana"/>
              </a:rPr>
              <a:t>nati in Italia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, per ordine e grado di istruzione.  A.s. 2011/12 – Dati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c00000"/>
                </a:solidFill>
                <a:latin typeface="Tw Cen MT"/>
                <a:ea typeface="Verdana"/>
              </a:rPr>
              <a:t>Aspetti emergenti </a:t>
            </a:r>
            <a:br>
              <a:rPr sz="3600"/>
            </a:br>
            <a:r>
              <a:rPr b="1" lang="it-IT" sz="3600" spc="-1" strike="noStrike">
                <a:solidFill>
                  <a:srgbClr val="c00000"/>
                </a:solidFill>
                <a:latin typeface="Tw Cen MT"/>
                <a:ea typeface="Verdana"/>
              </a:rPr>
              <a:t>nella scuola multiculturale</a:t>
            </a:r>
            <a:br>
              <a:rPr sz="3200"/>
            </a:b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95280" y="1600200"/>
            <a:ext cx="8370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Oltre la “soglia” del 30% </a:t>
            </a:r>
            <a:r>
              <a:rPr b="0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si registra il 4,3% delle scuole sul territorio nazionale, ma esistono anche scuole ad alta concentrazione (oltre il 50%, nell’a.s. 2001-2012,  ci sono 415 istituti, 233 sono scuole dell’infanzia, 113 scuole primarie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L’aumento della presenza di alunni con cittadinanza non italiana </a:t>
            </a: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nati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in Italia rende meno problematica il superamento della soglia del 30% fissata per legge (CM n.2 dell’ 8/01/2010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La </a:t>
            </a: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presenza degli alunni stranieri è disomogenea </a:t>
            </a:r>
            <a:r>
              <a:rPr b="0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sia per quanto riguarda la provenienza sia per la distribuzione delle varie etnie sul territorio nazionale. E’ la Romania la cittadinanza maggiormente  rappresentata (141.050 unità, pari al 18,7% dell’intera popolazione scolastica straniera), seguita dall’Albania (circa 103.000 pari al 13,6%) e dal Marocco (12,7%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Cresce l’investimento in istruzione nella secondaria di II grado </a:t>
            </a:r>
            <a:r>
              <a:rPr b="0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e la frequenza nei licei da parte degli alunni stranieri, soprattutto se nati in Italia, anche se la maggior parte si orienta tuttora verso gli istituti tecnici e professionali. Le femmine tendono a privilegiare, più dei maschi, la frequenza al liceo classico e linguistico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Permane il problema dell’insuccesso scolastico </a:t>
            </a:r>
            <a:r>
              <a:rPr b="0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(ritardo, ripetenze, abbandoni), pur all’interno di un generale miglioramento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Alunni di cittadinanza italiana e non italiana </a:t>
            </a:r>
            <a:br>
              <a:rPr sz="2800"/>
            </a:br>
            <a:r>
              <a:rPr b="1" lang="it-IT" sz="2800" spc="-1" strike="noStrike">
                <a:solidFill>
                  <a:srgbClr val="c00000"/>
                </a:solidFill>
                <a:latin typeface="Tw Cen MT"/>
              </a:rPr>
              <a:t>in ritardo e ripetenti </a:t>
            </a:r>
            <a:br>
              <a:rPr sz="2800"/>
            </a:b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Incidenza % - A.s. 2011/12 – Dati MIUR 2012</a:t>
            </a:r>
            <a:endParaRPr b="0" lang="en-US" sz="2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5280" y="1600200"/>
            <a:ext cx="837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68360" y="1700280"/>
          <a:ext cx="8137440" cy="2124000"/>
        </p:xfrm>
        <a:graphic>
          <a:graphicData uri="http://schemas.openxmlformats.org/drawingml/2006/table">
            <a:tbl>
              <a:tblPr/>
              <a:tblGrid>
                <a:gridCol w="2712960"/>
                <a:gridCol w="2711520"/>
                <a:gridCol w="2712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% in ritardo alunni itali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% in ritardo alunni C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m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c. di I g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c. di II g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468360" y="4437000"/>
          <a:ext cx="8064360" cy="2114640"/>
        </p:xfrm>
        <a:graphic>
          <a:graphicData uri="http://schemas.openxmlformats.org/drawingml/2006/table">
            <a:tbl>
              <a:tblPr/>
              <a:tblGrid>
                <a:gridCol w="2687760"/>
                <a:gridCol w="2689200"/>
                <a:gridCol w="2687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% ripetenti alunni itali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% ripetenti alunni C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m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c. di I g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c. di II g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Tw Cen MT"/>
              </a:rPr>
              <a:t>Quale influenza della composizione della classe sul rendimento scolastico?</a:t>
            </a:r>
            <a:endParaRPr b="0" lang="en-US" sz="32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w Cen MT"/>
              </a:rPr>
              <a:t>Spesso si sostiene che le classi ad alta concentrazione di alunni stranieri abbiano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	</a:t>
            </a: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effetti negativi sull’apprendimento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In realtà, questo legame andrebbe analizzato più attentamente e direttamente nelle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specifiche situazion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Spesso,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nella composizione delle classi, entrano in gioco, oltre all’elemento etnico, anche altri aspetti, come lo status socio-economico </a:t>
            </a: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… quando questi due aspetti si associano possono produrre numerosi problemi sul piano dell’apprendimento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i risultati dell’apprendimento sono quindi legati a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molteplici fattori e non solo alla numerosità della presenza di alunni stranier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00000"/>
                </a:solidFill>
                <a:latin typeface="Tw Cen MT"/>
              </a:rPr>
              <a:t>Alcuni interrogativi …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Quanti sono gli alunni con cittadinanza non italiana a scuola? Come si distribuiscono sul territorio nazionale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Com’è la composizione delle classi? Esiste un “effetto composizione”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Come sono i loro risultati scolastici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Che tipi di scuola secondaria di II grado scelgono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Come sono i rapporti con gli insegnanti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Come sono i rapporti con i compagni? E tra italiani e stranieri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Come si trovano in genere a scuola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Quanto è importante essere nato in Italia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Cosa si intende quando si parla di integrazione a scuola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Si può misurare il grado di integrazione scolastica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w Cen MT"/>
              </a:rPr>
              <a:t>L’avanzare delle seconde generazioni: la normalizzazione “apparente”</a:t>
            </a:r>
            <a:endParaRPr b="0" lang="en-US" sz="3200" spc="-1" strike="noStrike">
              <a:solidFill>
                <a:srgbClr val="696464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Tw Cen MT"/>
                <a:ea typeface="Verdana"/>
              </a:rPr>
              <a:t>Una diversa condizione …?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w Cen MT"/>
                <a:ea typeface="Verdana"/>
              </a:rPr>
              <a:t>Recenti indagini, che pongono a confronto prime e seconde generazioni, mettono chiaramente in evidenza come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Tw Cen MT"/>
                <a:ea typeface="Verdana"/>
              </a:rPr>
              <a:t>	</a:t>
            </a:r>
            <a:r>
              <a:rPr b="1" lang="it-IT" sz="3600" spc="-1" strike="noStrike">
                <a:solidFill>
                  <a:srgbClr val="c00000"/>
                </a:solidFill>
                <a:latin typeface="Tw Cen MT"/>
                <a:ea typeface="Verdana"/>
              </a:rPr>
              <a:t>le seconde generazioni siano di fatto più vicine  ai coetanei italiani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Tw Cen MT"/>
                <a:ea typeface="Verdana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w Cen MT"/>
                <a:ea typeface="Verdana"/>
              </a:rPr>
              <a:t>rispetto sia ai risultati scolastici sia all'intenzione di continuare gli stud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Tw Cen MT"/>
                <a:ea typeface="Verdana"/>
              </a:rPr>
              <a:t>Verso una “normalizzazione”?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w Cen MT"/>
                <a:ea typeface="Verdana"/>
              </a:rPr>
              <a:t>La migliore riuscita degli alunni stranieri nati in Italia comincia ad essere documentata anche dai dati statistici  e dalle ricerch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w Cen MT"/>
                <a:ea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w Cen MT"/>
                <a:ea typeface="Verdana"/>
              </a:rPr>
              <a:t>(per esempio il recente lavoro dell’Invalsi sulla valutazione degli apprendimenti mostra come le seconde generazioni abbiano risultati migliori)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  <a:ea typeface="Verdana"/>
              </a:rPr>
              <a:t>Punti di differenza nelle prove Invalsi di italiano e di matematica tra alunni italiani e alunni Cni ai vari livelli scolastici -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  <a:ea typeface="Verdana"/>
              </a:rPr>
              <a:t>A.s. 2011-2012 </a:t>
            </a:r>
            <a:br>
              <a:rPr sz="2000"/>
            </a:br>
            <a:endParaRPr b="0" lang="en-US" sz="2000" spc="-1" strike="noStrike">
              <a:solidFill>
                <a:srgbClr val="696464"/>
              </a:solidFill>
              <a:latin typeface="Tw Cen MT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68360" y="1773360"/>
          <a:ext cx="8153280" cy="4759200"/>
        </p:xfrm>
        <a:graphic>
          <a:graphicData uri="http://schemas.openxmlformats.org/drawingml/2006/table">
            <a:tbl>
              <a:tblPr/>
              <a:tblGrid>
                <a:gridCol w="1630440"/>
                <a:gridCol w="1630080"/>
                <a:gridCol w="1632240"/>
                <a:gridCol w="1630080"/>
                <a:gridCol w="16304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Ordine di scuola e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tali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atema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ranieri di I generazione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tali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ranieri di II generazione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tali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ranieri di I generazione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tali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ranieri di II generazione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tali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maria – class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maria - classe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c. I grado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asse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c.  I grado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asse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c. II grado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ass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Tw Cen MT"/>
                <a:ea typeface="Verdana"/>
              </a:rPr>
              <a:t>Basta la conoscenza della lingua e della cultura italiana?</a:t>
            </a:r>
            <a:endParaRPr b="0" lang="en-US" sz="32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it-IT" sz="2800" spc="-1" strike="noStrike">
                <a:solidFill>
                  <a:srgbClr val="c00000"/>
                </a:solidFill>
                <a:latin typeface="Verdana"/>
                <a:ea typeface="Verdana"/>
              </a:rPr>
              <a:t>La “normalizzazione” di una presenza può contenere delle insidi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w Cen MT"/>
                <a:ea typeface="Verdana"/>
              </a:rPr>
              <a:t>sottostante c’è un’idea di integrazione come assimilazione alla cultura del paese ospitan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w Cen MT"/>
                <a:ea typeface="Verdana"/>
              </a:rPr>
              <a:t>può significare enfasi sulla somiglianza e disattenzione alle diversità e differenz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w Cen MT"/>
                <a:ea typeface="Verdana"/>
              </a:rPr>
              <a:t>può distogliere dall’impegno all’interculturalità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Freccia in giù 3"/>
          <p:cNvSpPr/>
          <p:nvPr/>
        </p:nvSpPr>
        <p:spPr>
          <a:xfrm>
            <a:off x="4716360" y="2708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10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10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10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200" spc="-1" strike="noStrike">
                <a:solidFill>
                  <a:srgbClr val="ffffff"/>
                </a:solidFill>
                <a:latin typeface="Tw Cen MT"/>
                <a:ea typeface="Verdana"/>
              </a:rPr>
              <a:t>E’ possibile misurare l’integrazione scolastica?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280" y="3715920"/>
            <a:ext cx="8153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Tw Cen MT"/>
                <a:ea typeface="Verdana"/>
              </a:rPr>
              <a:t>La ricerca Orim su </a:t>
            </a:r>
            <a:br>
              <a:rPr sz="3200"/>
            </a:br>
            <a:r>
              <a:rPr b="1" lang="it-IT" sz="3200" spc="-1" strike="noStrike">
                <a:solidFill>
                  <a:srgbClr val="c00000"/>
                </a:solidFill>
                <a:latin typeface="Tw Cen MT"/>
                <a:ea typeface="Verdana"/>
              </a:rPr>
              <a:t>“Relazioni interetniche e livelli di integrazione nelle realtà scolastico/formative in Lombardia”</a:t>
            </a:r>
            <a:endParaRPr b="0" lang="en-US" sz="3200" spc="-1" strike="noStrike">
              <a:solidFill>
                <a:srgbClr val="696464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3600" spc="-1" strike="noStrike">
                <a:solidFill>
                  <a:srgbClr val="c00000"/>
                </a:solidFill>
                <a:latin typeface="Tw Cen MT"/>
                <a:ea typeface="Verdana"/>
              </a:rPr>
              <a:t>Un’indagine pluriennale (2010-2012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Tw Cen MT"/>
                <a:ea typeface="Verdana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Tw Cen MT"/>
                <a:ea typeface="Verdana"/>
              </a:rPr>
              <a:t>Un’indagine </a:t>
            </a:r>
            <a:r>
              <a:rPr b="1" i="1" lang="it-IT" sz="2200" spc="-1" strike="noStrike">
                <a:solidFill>
                  <a:srgbClr val="c00000"/>
                </a:solidFill>
                <a:latin typeface="Tw Cen MT"/>
                <a:ea typeface="Verdana"/>
              </a:rPr>
              <a:t>qualitativa</a:t>
            </a:r>
            <a:r>
              <a:rPr b="1" lang="it-IT" sz="2200" spc="-1" strike="noStrike">
                <a:solidFill>
                  <a:srgbClr val="000000"/>
                </a:solidFill>
                <a:latin typeface="Tw Cen MT"/>
                <a:ea typeface="Verdana"/>
              </a:rPr>
              <a:t> (interviste e focus group a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w Cen MT"/>
                <a:ea typeface="Verdana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Tw Cen MT"/>
                <a:ea typeface="Verdana"/>
              </a:rPr>
              <a:t>insegnanti e operatori della Fp) e </a:t>
            </a:r>
            <a:r>
              <a:rPr b="1" i="1" lang="it-IT" sz="2200" spc="-1" strike="noStrike">
                <a:solidFill>
                  <a:srgbClr val="c00000"/>
                </a:solidFill>
                <a:latin typeface="Tw Cen MT"/>
                <a:ea typeface="Verdana"/>
              </a:rPr>
              <a:t>quantitativa</a:t>
            </a:r>
            <a:r>
              <a:rPr b="1" lang="it-IT" sz="2200" spc="-1" strike="noStrike">
                <a:solidFill>
                  <a:srgbClr val="000000"/>
                </a:solidFill>
                <a:latin typeface="Tw Cen MT"/>
                <a:ea typeface="Verdana"/>
              </a:rPr>
              <a:t> (questionario a </a:t>
            </a:r>
            <a:r>
              <a:rPr b="1" lang="it-IT" sz="2200" spc="-1" strike="noStrike">
                <a:solidFill>
                  <a:srgbClr val="c00000"/>
                </a:solidFill>
                <a:latin typeface="Tw Cen MT"/>
                <a:ea typeface="Verdana"/>
              </a:rPr>
              <a:t>1040</a:t>
            </a:r>
            <a:r>
              <a:rPr b="1" lang="it-IT" sz="2200" spc="-1" strike="noStrike">
                <a:solidFill>
                  <a:srgbClr val="000000"/>
                </a:solidFill>
                <a:latin typeface="Tw Cen MT"/>
                <a:ea typeface="Verdana"/>
              </a:rPr>
              <a:t> alunni italiani e stranieri delle </a:t>
            </a:r>
            <a:r>
              <a:rPr b="1" i="1" lang="it-IT" sz="2200" spc="-1" strike="noStrike">
                <a:solidFill>
                  <a:srgbClr val="000000"/>
                </a:solidFill>
                <a:latin typeface="Tw Cen MT"/>
                <a:ea typeface="Verdana"/>
              </a:rPr>
              <a:t>scuole  </a:t>
            </a:r>
            <a:r>
              <a:rPr b="1" i="1" lang="it-IT" sz="2200" spc="-1" strike="noStrike">
                <a:solidFill>
                  <a:srgbClr val="c00000"/>
                </a:solidFill>
                <a:latin typeface="Tw Cen MT"/>
                <a:ea typeface="Verdana"/>
              </a:rPr>
              <a:t>secondarie di I grado</a:t>
            </a:r>
            <a:r>
              <a:rPr b="1" lang="it-IT" sz="2200" spc="-1" strike="noStrike">
                <a:solidFill>
                  <a:srgbClr val="c00000"/>
                </a:solidFill>
                <a:latin typeface="Tw Cen MT"/>
                <a:ea typeface="Verdana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Tw Cen MT"/>
                <a:ea typeface="Verdana"/>
              </a:rPr>
              <a:t>con più del   30% di presenza di alunni stranieri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c00000"/>
                </a:solidFill>
                <a:latin typeface="Tw Cen MT"/>
              </a:rPr>
              <a:t>Obiettiv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it-IT" sz="2600" spc="-1" strike="noStrike">
                <a:solidFill>
                  <a:srgbClr val="000000"/>
                </a:solidFill>
                <a:latin typeface="Tw Cen MT"/>
              </a:rPr>
              <a:t>indagare le caratteristiche delle relazioni (</a:t>
            </a:r>
            <a:r>
              <a:rPr b="1" lang="it-IT" sz="2600" spc="-1" strike="noStrike">
                <a:solidFill>
                  <a:srgbClr val="c00000"/>
                </a:solidFill>
                <a:latin typeface="Tw Cen MT"/>
              </a:rPr>
              <a:t>dimensione relazionale</a:t>
            </a:r>
            <a:r>
              <a:rPr b="1" lang="it-IT" sz="2600" spc="-1" strike="noStrike">
                <a:solidFill>
                  <a:srgbClr val="000000"/>
                </a:solidFill>
                <a:latin typeface="Tw Cen MT"/>
              </a:rPr>
              <a:t>) sia tra pari sia con gli adulti e la loro importanza rispetto all’apprendimento (</a:t>
            </a:r>
            <a:r>
              <a:rPr b="1" lang="it-IT" sz="2600" spc="-1" strike="noStrike">
                <a:solidFill>
                  <a:srgbClr val="c00000"/>
                </a:solidFill>
                <a:latin typeface="Tw Cen MT"/>
              </a:rPr>
              <a:t>dimensione cognitiva</a:t>
            </a:r>
            <a:r>
              <a:rPr b="1" lang="it-IT" sz="2600" spc="-1" strike="noStrike">
                <a:solidFill>
                  <a:srgbClr val="000000"/>
                </a:solidFill>
                <a:latin typeface="Tw Cen MT"/>
              </a:rPr>
              <a:t>) con lo scopo di far emergere gli </a:t>
            </a:r>
            <a:r>
              <a:rPr b="1" lang="it-IT" sz="2600" spc="-1" strike="noStrike">
                <a:solidFill>
                  <a:srgbClr val="c00000"/>
                </a:solidFill>
                <a:latin typeface="Tw Cen MT"/>
              </a:rPr>
              <a:t>indicatori più significativi di integrazione scolast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8153280" cy="50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13" name="Rettangolo arrotondato 2"/>
          <p:cNvSpPr/>
          <p:nvPr/>
        </p:nvSpPr>
        <p:spPr>
          <a:xfrm>
            <a:off x="1403280" y="3213000"/>
            <a:ext cx="2089080" cy="16574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mensione rel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ttangolo arrotondato 3"/>
          <p:cNvSpPr/>
          <p:nvPr/>
        </p:nvSpPr>
        <p:spPr>
          <a:xfrm>
            <a:off x="5219640" y="3213000"/>
            <a:ext cx="2160720" cy="1657440"/>
          </a:xfrm>
          <a:prstGeom prst="roundRect">
            <a:avLst>
              <a:gd name="adj" fmla="val 16667"/>
            </a:avLst>
          </a:prstGeom>
          <a:solidFill>
            <a:srgbClr val="e99d9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mens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gn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ttangolo 4"/>
          <p:cNvSpPr/>
          <p:nvPr/>
        </p:nvSpPr>
        <p:spPr>
          <a:xfrm>
            <a:off x="684360" y="0"/>
            <a:ext cx="734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Tw Cen MT"/>
                <a:ea typeface="Verdana"/>
              </a:rPr>
              <a:t>Ipotesi di ricerca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w Cen MT"/>
                <a:ea typeface="Verdana"/>
              </a:rPr>
              <a:t>La dimensione relazionale e la dimensione cognitiva sono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  <a:ea typeface="SimSun-ExtB"/>
              </a:rPr>
              <a:t>strettamente intrecc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w Cen MT"/>
                <a:ea typeface="Verdana"/>
              </a:rPr>
              <a:t>nel definire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  <a:ea typeface="Verdana"/>
              </a:rPr>
              <a:t>percorsi positivi di integrazione scolastic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e 5"/>
          <p:cNvSpPr/>
          <p:nvPr/>
        </p:nvSpPr>
        <p:spPr>
          <a:xfrm>
            <a:off x="3276720" y="5013360"/>
            <a:ext cx="2305080" cy="151272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egrazione scola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Connettore 2 7"/>
          <p:cNvCxnSpPr/>
          <p:nvPr/>
        </p:nvCxnSpPr>
        <p:spPr>
          <a:xfrm>
            <a:off x="1331640" y="2276640"/>
            <a:ext cx="361080" cy="15847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8" name="Connettore 2 9"/>
          <p:cNvCxnSpPr/>
          <p:nvPr/>
        </p:nvCxnSpPr>
        <p:spPr>
          <a:xfrm flipH="1">
            <a:off x="2700000" y="2133720"/>
            <a:ext cx="288000" cy="13672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Connettore 2 11"/>
          <p:cNvCxnSpPr/>
          <p:nvPr/>
        </p:nvCxnSpPr>
        <p:spPr>
          <a:xfrm flipH="1">
            <a:off x="3203280" y="2349000"/>
            <a:ext cx="721440" cy="13676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Connettore 2 13"/>
          <p:cNvCxnSpPr/>
          <p:nvPr/>
        </p:nvCxnSpPr>
        <p:spPr>
          <a:xfrm>
            <a:off x="468360" y="2707920"/>
            <a:ext cx="1080000" cy="13690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Connettore 2 15"/>
          <p:cNvCxnSpPr/>
          <p:nvPr/>
        </p:nvCxnSpPr>
        <p:spPr>
          <a:xfrm>
            <a:off x="5508720" y="2421000"/>
            <a:ext cx="358920" cy="12247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Connettore 2 17"/>
          <p:cNvCxnSpPr/>
          <p:nvPr/>
        </p:nvCxnSpPr>
        <p:spPr>
          <a:xfrm flipH="1">
            <a:off x="6372000" y="1989000"/>
            <a:ext cx="144720" cy="16567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Connettore 2 19"/>
          <p:cNvCxnSpPr/>
          <p:nvPr/>
        </p:nvCxnSpPr>
        <p:spPr>
          <a:xfrm flipH="1">
            <a:off x="7019280" y="2276280"/>
            <a:ext cx="648360" cy="14403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4" name="Connettore 2 23"/>
          <p:cNvCxnSpPr/>
          <p:nvPr/>
        </p:nvCxnSpPr>
        <p:spPr>
          <a:xfrm>
            <a:off x="4643280" y="2565000"/>
            <a:ext cx="937440" cy="13690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5" name="Connettore 2 25"/>
          <p:cNvCxnSpPr/>
          <p:nvPr/>
        </p:nvCxnSpPr>
        <p:spPr>
          <a:xfrm flipH="1">
            <a:off x="7235280" y="3284280"/>
            <a:ext cx="937080" cy="10818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Connettore 2 28"/>
          <p:cNvCxnSpPr/>
          <p:nvPr/>
        </p:nvCxnSpPr>
        <p:spPr>
          <a:xfrm>
            <a:off x="2050560" y="3860280"/>
            <a:ext cx="1080" cy="1080"/>
          </a:xfrm>
          <a:prstGeom prst="straightConnector1">
            <a:avLst/>
          </a:prstGeom>
          <a:ln w="10080">
            <a:solidFill>
              <a:srgbClr val="d34817"/>
            </a:solidFill>
            <a:miter/>
            <a:tailEnd len="med" type="arrow" w="med"/>
          </a:ln>
        </p:spPr>
      </p:cxnSp>
      <p:cxnSp>
        <p:nvCxnSpPr>
          <p:cNvPr id="427" name="Connettore 2 31"/>
          <p:cNvCxnSpPr/>
          <p:nvPr/>
        </p:nvCxnSpPr>
        <p:spPr>
          <a:xfrm>
            <a:off x="2195280" y="2060640"/>
            <a:ext cx="1080" cy="151344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8" name="Freccia bidirezionale orizzontale 32"/>
          <p:cNvSpPr/>
          <p:nvPr/>
        </p:nvSpPr>
        <p:spPr>
          <a:xfrm>
            <a:off x="3348000" y="3789360"/>
            <a:ext cx="2087640" cy="404640"/>
          </a:xfrm>
          <a:prstGeom prst="left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ccia a destra 34"/>
          <p:cNvSpPr/>
          <p:nvPr/>
        </p:nvSpPr>
        <p:spPr>
          <a:xfrm rot="3748800">
            <a:off x="2766600" y="4788000"/>
            <a:ext cx="1087560" cy="4870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d3481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ccia in giù 35"/>
          <p:cNvSpPr/>
          <p:nvPr/>
        </p:nvSpPr>
        <p:spPr>
          <a:xfrm rot="1717200">
            <a:off x="5184360" y="4481280"/>
            <a:ext cx="486000" cy="118080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d3481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00000"/>
                </a:solidFill>
                <a:latin typeface="Tw Cen MT"/>
                <a:ea typeface="Verdana"/>
              </a:rPr>
              <a:t>Alcuni risultati (1)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Si osservano </a:t>
            </a: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condizioni e percorsi diversi tra italiani e stranieri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, come pure all’</a:t>
            </a: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interno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 del gruppo degli italiani e degli stranieri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I percorsi si differenziano anche in relazione al </a:t>
            </a: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sesso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, allo </a:t>
            </a: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status socio-economico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, al </a:t>
            </a: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capitale sociale 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e </a:t>
            </a: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culturale familiare . 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</a:rPr>
              <a:t>Le famiglie straniere tendono a un investimento in istruzione più breve e professionalizzante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L’insuccesso scolastico è presente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, in particolare fra gli stranieri, soprattutto se nati all’estero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just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Tw Cen MT"/>
              </a:rPr>
              <a:t>Le femmine 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</a:rPr>
              <a:t>hanno  spesso un profitto medio superiore a quello dei maschi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just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w Cen MT"/>
              </a:rPr>
              <a:t>In generale, si riscontrano </a:t>
            </a:r>
            <a:r>
              <a:rPr b="1" lang="it-IT" sz="1800" spc="-1" strike="noStrike">
                <a:solidFill>
                  <a:srgbClr val="c00000"/>
                </a:solidFill>
                <a:latin typeface="Tw Cen MT"/>
              </a:rPr>
              <a:t>alti livelli di soddisfazione per la propria esperienza scolastica,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</a:rPr>
              <a:t> anche fra gli alunni stranieri nati all’estero, malgrado i maggiori problemi legati allo studio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i rileva </a:t>
            </a:r>
            <a:r>
              <a:rPr b="1" lang="it-IT" sz="1800" spc="-1" strike="noStrike">
                <a:solidFill>
                  <a:srgbClr val="c00000"/>
                </a:solidFill>
                <a:latin typeface="Tw Cen MT"/>
                <a:ea typeface="Verdana"/>
              </a:rPr>
              <a:t>un’influenza della composizione della classe </a:t>
            </a:r>
            <a:r>
              <a:rPr b="1" lang="it-IT" sz="1800" spc="-1" strike="noStrike">
                <a:solidFill>
                  <a:srgbClr val="000000"/>
                </a:solidFill>
                <a:latin typeface="Tw Cen MT"/>
                <a:ea typeface="Verdana"/>
              </a:rPr>
              <a:t>(oltre il 30% di stranieri), ma legata in modo evidente anche ad altri elementi di composizione  come lo status socio-economico basso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00000"/>
                </a:solidFill>
                <a:latin typeface="Tw Cen MT"/>
                <a:ea typeface="Verdana"/>
              </a:rPr>
              <a:t>Argomenti di riflessione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  <a:ea typeface="Verdana"/>
              </a:rPr>
              <a:t>Migrazioni e generazion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  <a:ea typeface="Verdana"/>
              </a:rPr>
              <a:t>La presenza di alunni con cittadinanza non italiana a scuola: le classi multietniche tra 1a e 2a </a:t>
            </a:r>
            <a:r>
              <a:rPr b="0" lang="it-IT" sz="3000" spc="-1" strike="noStrike">
                <a:solidFill>
                  <a:srgbClr val="000000"/>
                </a:solidFill>
                <a:latin typeface="Tw Cen MT"/>
                <a:ea typeface="Verdana"/>
              </a:rPr>
              <a:t>generazion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  <a:ea typeface="Verdana"/>
              </a:rPr>
              <a:t>L’avanzare delle seconde generazioni: la normalizzazione “apparente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  <a:ea typeface="Verdana"/>
              </a:rPr>
              <a:t>Misurare l’integrazione scolasti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00000"/>
                </a:solidFill>
                <a:latin typeface="Tw Cen MT"/>
              </a:rPr>
              <a:t>Alcuni risultati (2)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Tw Cen MT"/>
              </a:rPr>
              <a:t>Il sistema delle relazion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buClr>
                <a:srgbClr val="9b2d1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Tw Cen MT"/>
              </a:rPr>
              <a:t>Le relazioni con i compagni di classe appaiono complessivamente buone soprattutto fra gli stranieri nati in Italia </a:t>
            </a: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rispetto  agli italiani e a coloro che sono nati  all’estero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Tw Cen MT"/>
              </a:rPr>
              <a:t>E’ presente un maggior disagio relazionale fra gli alunni stranieri</a:t>
            </a: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, soprattutto se maschi, derivante anche da episodi di prepotenze, di discriminazione, di razzismo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Buona appare </a:t>
            </a:r>
            <a:r>
              <a:rPr b="1" lang="it-IT" sz="1600" spc="-1" strike="noStrike">
                <a:solidFill>
                  <a:srgbClr val="c00000"/>
                </a:solidFill>
                <a:latin typeface="Tw Cen MT"/>
              </a:rPr>
              <a:t>la rete amicale</a:t>
            </a: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, più fra gli italiani che fra gli stranieri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Si osserva la </a:t>
            </a:r>
            <a:r>
              <a:rPr b="1" lang="it-IT" sz="1600" spc="-1" strike="noStrike">
                <a:solidFill>
                  <a:srgbClr val="c00000"/>
                </a:solidFill>
                <a:latin typeface="Tw Cen MT"/>
              </a:rPr>
              <a:t>tendenza a formare gruppi omogenei</a:t>
            </a: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, ma sono presenti anche gruppi misti, eterogenei per composizione. In maggiore difficoltà ad avere amici appaiono i ragazzi stranieri nati all’estero.</a:t>
            </a:r>
            <a:r>
              <a:rPr b="1" lang="it-IT" sz="16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La maggior parte degli alunni sia italiani sia stranieri ritiene di essere </a:t>
            </a:r>
            <a:r>
              <a:rPr b="1" lang="it-IT" sz="1600" spc="-1" strike="noStrike">
                <a:solidFill>
                  <a:srgbClr val="c00000"/>
                </a:solidFill>
                <a:latin typeface="Tw Cen MT"/>
              </a:rPr>
              <a:t>trattato bene</a:t>
            </a: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 o abbastanza bene dagli insegnanti e ne sono più convinte le femmine. Gli alunni stranieri sentono anche di essere aiutati in modo adeguato </a:t>
            </a:r>
            <a:r>
              <a:rPr b="1" lang="it-IT" sz="1600" spc="-1" strike="noStrike">
                <a:solidFill>
                  <a:srgbClr val="c00000"/>
                </a:solidFill>
                <a:latin typeface="Tw Cen MT"/>
              </a:rPr>
              <a:t>e il loro giudizio sugli insegnanti è spesso migliore rispetto a quello dei loro compagni italiani</a:t>
            </a: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I rapporti con gli insegnanti sono più frequenti fra i genitori degli alunni italiani,  anche se fra i genitori stranieri è comunque maggiormente diffusa la fiducia negli insegnanti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Fra gli elementi che concorrono alla </a:t>
            </a:r>
            <a:r>
              <a:rPr b="1" lang="it-IT" sz="1600" spc="-1" strike="noStrike">
                <a:solidFill>
                  <a:srgbClr val="c00000"/>
                </a:solidFill>
                <a:latin typeface="Tw Cen MT"/>
              </a:rPr>
              <a:t>chiusura verso l’altro </a:t>
            </a: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tanto per gli italiani quanto per gli stranieri si evidenziano soprattutto: lo status socio-economico basso, la scarsa riuscita scolastica, l’investimento di basso profilo nella formazione e la tendenza all’avvio precoce al lavoro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Tw Cen MT"/>
              </a:rPr>
              <a:t>Il benessere relazionale </a:t>
            </a: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è</a:t>
            </a:r>
            <a:r>
              <a:rPr b="1" lang="it-IT" sz="1600" spc="-1" strike="noStrike">
                <a:solidFill>
                  <a:srgbClr val="c00000"/>
                </a:solidFill>
                <a:latin typeface="Tw Cen MT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direttamente</a:t>
            </a:r>
            <a:r>
              <a:rPr b="1" lang="it-IT" sz="1600" spc="-1" strike="noStrike">
                <a:solidFill>
                  <a:srgbClr val="c00000"/>
                </a:solidFill>
                <a:latin typeface="Tw Cen MT"/>
              </a:rPr>
              <a:t> collegato alla riuscita scolastica</a:t>
            </a:r>
            <a:r>
              <a:rPr b="1" lang="it-IT" sz="1600" spc="-1" strike="noStrike">
                <a:solidFill>
                  <a:srgbClr val="000000"/>
                </a:solidFill>
                <a:latin typeface="Tw Cen MT"/>
              </a:rPr>
              <a:t> e non è in genere influenzato dalla presenza  elevata di alunni stranieri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1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10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10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100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1000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1000"/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1000"/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Verdana"/>
                <a:ea typeface="Verdana"/>
              </a:rPr>
              <a:t>La riuscita scolastica come fattore di integrazione</a:t>
            </a:r>
            <a:endParaRPr b="0" lang="en-US" sz="3200" spc="-1" strike="noStrike">
              <a:solidFill>
                <a:srgbClr val="696464"/>
              </a:solidFill>
              <a:latin typeface="Tw Cen MT"/>
            </a:endParaRPr>
          </a:p>
        </p:txBody>
      </p:sp>
      <p:pic>
        <p:nvPicPr>
          <p:cNvPr id="436" name="Segnaposto contenuto 4" descr=""/>
          <p:cNvPicPr/>
          <p:nvPr/>
        </p:nvPicPr>
        <p:blipFill>
          <a:blip r:embed="rId1"/>
          <a:stretch/>
        </p:blipFill>
        <p:spPr>
          <a:xfrm>
            <a:off x="609480" y="1255680"/>
            <a:ext cx="8163000" cy="5583240"/>
          </a:xfrm>
          <a:prstGeom prst="rect">
            <a:avLst/>
          </a:prstGeom>
          <a:ln w="0">
            <a:noFill/>
          </a:ln>
        </p:spPr>
      </p:pic>
      <p:sp>
        <p:nvSpPr>
          <p:cNvPr id="437" name="Ovale 7"/>
          <p:cNvSpPr/>
          <p:nvPr/>
        </p:nvSpPr>
        <p:spPr>
          <a:xfrm>
            <a:off x="1619280" y="1700280"/>
            <a:ext cx="1706400" cy="1368360"/>
          </a:xfrm>
          <a:prstGeom prst="ellipse">
            <a:avLst/>
          </a:prstGeom>
          <a:solidFill>
            <a:srgbClr val="d3481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 Black"/>
              </a:rPr>
              <a:t>MOTIVA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e 8"/>
          <p:cNvSpPr/>
          <p:nvPr/>
        </p:nvSpPr>
        <p:spPr>
          <a:xfrm>
            <a:off x="6227640" y="1773360"/>
            <a:ext cx="1800360" cy="1274760"/>
          </a:xfrm>
          <a:prstGeom prst="ellipse">
            <a:avLst/>
          </a:prstGeom>
          <a:solidFill>
            <a:srgbClr val="ef8c6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 Black"/>
              </a:rPr>
              <a:t>RELAZIONI INSEGN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e 9"/>
          <p:cNvSpPr/>
          <p:nvPr/>
        </p:nvSpPr>
        <p:spPr>
          <a:xfrm>
            <a:off x="5364000" y="2781360"/>
            <a:ext cx="1511640" cy="107928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 Black"/>
              </a:rPr>
              <a:t>CAPITALE CULTURALE FAMILI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e 10"/>
          <p:cNvSpPr/>
          <p:nvPr/>
        </p:nvSpPr>
        <p:spPr>
          <a:xfrm>
            <a:off x="2627280" y="1197000"/>
            <a:ext cx="1873440" cy="1224000"/>
          </a:xfrm>
          <a:prstGeom prst="ellipse">
            <a:avLst/>
          </a:prstGeom>
          <a:solidFill>
            <a:srgbClr val="6e626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 Black"/>
              </a:rPr>
              <a:t>PROGETTUALITA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e 12"/>
          <p:cNvSpPr/>
          <p:nvPr/>
        </p:nvSpPr>
        <p:spPr>
          <a:xfrm>
            <a:off x="5651640" y="981000"/>
            <a:ext cx="1296720" cy="1058760"/>
          </a:xfrm>
          <a:prstGeom prst="ellipse">
            <a:avLst/>
          </a:prstGeom>
          <a:solidFill>
            <a:srgbClr val="a28e6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 Black"/>
              </a:rPr>
              <a:t>GEN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e 13"/>
          <p:cNvSpPr/>
          <p:nvPr/>
        </p:nvSpPr>
        <p:spPr>
          <a:xfrm>
            <a:off x="3995640" y="2924280"/>
            <a:ext cx="1584360" cy="1512720"/>
          </a:xfrm>
          <a:prstGeom prst="ellipse">
            <a:avLst/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e 11"/>
          <p:cNvSpPr/>
          <p:nvPr/>
        </p:nvSpPr>
        <p:spPr>
          <a:xfrm>
            <a:off x="2843280" y="2205000"/>
            <a:ext cx="1944720" cy="1295280"/>
          </a:xfrm>
          <a:prstGeom prst="ellipse">
            <a:avLst/>
          </a:prstGeom>
          <a:solidFill>
            <a:srgbClr val="7c6b4d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BENESS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e 14"/>
          <p:cNvSpPr/>
          <p:nvPr/>
        </p:nvSpPr>
        <p:spPr>
          <a:xfrm>
            <a:off x="4211640" y="1413000"/>
            <a:ext cx="2232000" cy="1511280"/>
          </a:xfrm>
          <a:prstGeom prst="ellipse">
            <a:avLst/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 Black"/>
              </a:rPr>
              <a:t>CITTADIN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Verdana"/>
                <a:ea typeface="Verdana"/>
              </a:rPr>
              <a:t>Percorsi di integrazione scolastica</a:t>
            </a:r>
            <a:br>
              <a:rPr sz="3200"/>
            </a:br>
            <a:r>
              <a:rPr b="1" lang="it-IT" sz="1800" spc="-1" strike="noStrike">
                <a:solidFill>
                  <a:srgbClr val="c00000"/>
                </a:solidFill>
                <a:latin typeface="Verdana"/>
                <a:ea typeface="Verdana"/>
              </a:rPr>
              <a:t>(cluster analysis)</a:t>
            </a:r>
            <a:endParaRPr b="0" lang="en-US" sz="1800" spc="-1" strike="noStrike">
              <a:solidFill>
                <a:srgbClr val="696464"/>
              </a:solidFill>
              <a:latin typeface="Tw Cen MT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24000" y="1268280"/>
          <a:ext cx="8353440" cy="5624640"/>
        </p:xfrm>
        <a:graphic>
          <a:graphicData uri="http://schemas.openxmlformats.org/drawingml/2006/table">
            <a:tbl>
              <a:tblPr/>
              <a:tblGrid>
                <a:gridCol w="1044360"/>
                <a:gridCol w="1042920"/>
                <a:gridCol w="2089440"/>
                <a:gridCol w="2087280"/>
                <a:gridCol w="2089440"/>
              </a:tblGrid>
              <a:tr h="371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gget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up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atteristi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si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44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4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c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scarsa riuscita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carse relazion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basso, </a:t>
                      </a:r>
                      <a:r>
                        <a:rPr b="1" i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ficoltà  relazionali, tensioni interetniche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scarsa presenza della famiglia, disagio scolastico, bassa progettualità, </a:t>
                      </a:r>
                      <a:r>
                        <a:rPr b="1" i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vi difficoltà scolastiche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scarse competenze linguistic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a presenza di stranieri nati all’estero (44,3%), classi con forte incidenza di stranieri, prevalenza maschi (51,9%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,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buona riuscita +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uone relazioni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medio-alto, alto capitale culturale familiare, buona relazionalità,</a:t>
                      </a:r>
                      <a:r>
                        <a:rPr b="1" i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alto livello  benessere scolastico, elevati livelli di riuscita scolastica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 di competenza lingui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alenza di italiani (77%) e di femmine (51,4%), incidenza di stranieri sotto la med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0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zia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scarsa riuscita 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uone rel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ra par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basso, capitale culturale familiare basso, </a:t>
                      </a:r>
                      <a:r>
                        <a:rPr b="1" i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velli medi di relazionalità e di amicalità, scarse tensioni interetniche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livelli bassi di relazionalità con gli insegnanti, discreto orientamento familiare, ma scarsa discorsività, basso livello di benessere e di progettualità, </a:t>
                      </a:r>
                      <a:r>
                        <a:rPr b="1" i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uccesso scolas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alenza di maschi (53,3%), presenza di stranieri nati all’estero (40,4%) e in Italia (15,4%), italiani (44,1%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5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c00000"/>
                </a:solidFill>
                <a:latin typeface="Verdana"/>
                <a:ea typeface="Verdana"/>
              </a:rPr>
              <a:t>Fattori di INTEGRAZIONE SCOLASTICA</a:t>
            </a:r>
            <a:endParaRPr b="0" lang="en-US" sz="2900" spc="-1" strike="noStrike">
              <a:solidFill>
                <a:srgbClr val="696464"/>
              </a:solidFill>
              <a:latin typeface="Tw Cen MT"/>
            </a:endParaRPr>
          </a:p>
        </p:txBody>
      </p:sp>
      <p:pic>
        <p:nvPicPr>
          <p:cNvPr id="448" name="Segnaposto contenuto 3" descr=""/>
          <p:cNvPicPr/>
          <p:nvPr/>
        </p:nvPicPr>
        <p:blipFill>
          <a:blip r:embed="rId1"/>
          <a:stretch/>
        </p:blipFill>
        <p:spPr>
          <a:xfrm>
            <a:off x="585720" y="1682640"/>
            <a:ext cx="829008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Verdana"/>
                <a:ea typeface="Verdana"/>
              </a:rPr>
              <a:t>L’integrazione scolastica come processo …</a:t>
            </a:r>
            <a:endParaRPr b="0" lang="en-US" sz="32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c00000"/>
                </a:solidFill>
                <a:latin typeface="Verdana"/>
                <a:ea typeface="Verdana"/>
              </a:rPr>
              <a:t>L’indagine conferma: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  <a:ea typeface="Verdana"/>
              </a:rPr>
              <a:t>Lo stretto legame tra dimensione cognitiva e dimensione relazionale per una buona integrazione scolastica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c00000"/>
                </a:solidFill>
                <a:latin typeface="Verdana"/>
                <a:ea typeface="Verdana"/>
              </a:rPr>
              <a:t>L’esistenza di percorsi diversificati sia fra gli alunni stranieri che fra gli alunni italiani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  <a:ea typeface="Verdana"/>
              </a:rPr>
              <a:t>La presenza di ostacoli evidenti all’integrazione scolastica, legati sia a condizioni esterne alla classe sia a elementi interni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c00000"/>
                </a:solidFill>
                <a:latin typeface="Verdana"/>
                <a:ea typeface="Verdana"/>
              </a:rPr>
              <a:t>L’importanza della </a:t>
            </a:r>
            <a:r>
              <a:rPr b="1" i="1" lang="it-IT" sz="1900" spc="-1" strike="noStrike">
                <a:solidFill>
                  <a:srgbClr val="c00000"/>
                </a:solidFill>
                <a:latin typeface="Verdana"/>
                <a:ea typeface="Verdana"/>
              </a:rPr>
              <a:t>composizione della classe</a:t>
            </a:r>
            <a:r>
              <a:rPr b="1" lang="it-IT" sz="1900" spc="-1" strike="noStrike">
                <a:solidFill>
                  <a:srgbClr val="c00000"/>
                </a:solidFill>
                <a:latin typeface="Verdana"/>
                <a:ea typeface="Verdana"/>
              </a:rPr>
              <a:t>, ma non quale unico elemento di spiegazione delle difficoltà di riuscita, o delle difficoltà di relazioni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Percorsi di integrazione …</a:t>
            </a:r>
            <a:br>
              <a:rPr sz="3600"/>
            </a:b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il ruolo della scuola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w Cen MT"/>
              </a:rPr>
              <a:t>Dalla ricerca emerge molta cura nella costruzione di un buon clima di classe che tuttavia va agganciato di più ad un consolidamento delle motivazioni all’apprendimento e dell’impegno verso esiti scolastici positiv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w Cen MT"/>
              </a:rPr>
              <a:t>sviluppare nuove modalità di apprendimento centrato sulla collaborazione, la cooperazione, l’accompagnamento (</a:t>
            </a:r>
            <a:r>
              <a:rPr b="1" i="1" lang="it-IT" sz="2000" spc="-1" strike="noStrike">
                <a:solidFill>
                  <a:srgbClr val="000000"/>
                </a:solidFill>
                <a:latin typeface="Tw Cen MT"/>
              </a:rPr>
              <a:t>cooperative learning</a:t>
            </a:r>
            <a:r>
              <a:rPr b="1" lang="it-IT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i="1" lang="it-IT" sz="2000" spc="-1" strike="noStrike">
                <a:solidFill>
                  <a:srgbClr val="000000"/>
                </a:solidFill>
                <a:latin typeface="Tw Cen MT"/>
              </a:rPr>
              <a:t>peer-education</a:t>
            </a:r>
            <a:r>
              <a:rPr b="1" lang="it-IT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Arial Black"/>
              </a:rPr>
              <a:t>agganciare il benessere relazional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Arial Black"/>
              </a:rPr>
              <a:t>ai progetti di vit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Freccia in giù 3"/>
          <p:cNvSpPr/>
          <p:nvPr/>
        </p:nvSpPr>
        <p:spPr>
          <a:xfrm>
            <a:off x="4356000" y="407664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1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7" dur="20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0" dur="20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00000"/>
                </a:solidFill>
                <a:latin typeface="Tw Cen MT"/>
                <a:ea typeface="Verdana"/>
              </a:rPr>
              <a:t>Strategie …</a:t>
            </a:r>
            <a:endParaRPr b="0" lang="en-US" sz="40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146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c00000"/>
                </a:solidFill>
                <a:latin typeface="Verdana"/>
                <a:ea typeface="Verdana"/>
              </a:rPr>
              <a:t>prevenzione dell’insuccesso e dell’abbandon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sostegno nell’apprendimento e nella riuscita scolastica e formativa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c00000"/>
                </a:solidFill>
                <a:latin typeface="Verdana"/>
                <a:ea typeface="Verdana"/>
              </a:rPr>
              <a:t>evitare la « segregazione formativa » e la « canalizzazione preco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sostegno nelle scelte scolastiche e professionali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Verdana"/>
                <a:ea typeface="Verdana"/>
              </a:rPr>
              <a:t>sviluppo delle relazioni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(</a:t>
            </a:r>
            <a:r>
              <a:rPr b="1" i="1" lang="fr-FR" sz="2000" spc="-1" strike="noStrike">
                <a:solidFill>
                  <a:srgbClr val="c00000"/>
                </a:solidFill>
                <a:latin typeface="Verdana"/>
                <a:ea typeface="Verdana"/>
              </a:rPr>
              <a:t>capitale sociale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attraverso un coinvolgimento delle famiglie e delle  realtà locali e il contrasto alla discriminazione, alle forme stereotipate nelle </a:t>
            </a:r>
            <a:r>
              <a:rPr b="1" i="1" lang="fr-FR" sz="2000" spc="-1" strike="noStrike">
                <a:solidFill>
                  <a:srgbClr val="c00000"/>
                </a:solidFill>
                <a:latin typeface="Verdana"/>
                <a:ea typeface="Verdana"/>
              </a:rPr>
              <a:t>relazioni scolastich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Rettangolo 3"/>
          <p:cNvSpPr/>
          <p:nvPr/>
        </p:nvSpPr>
        <p:spPr>
          <a:xfrm>
            <a:off x="334800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isurare l’integrazione scolastic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ttangolo 4"/>
          <p:cNvSpPr/>
          <p:nvPr/>
        </p:nvSpPr>
        <p:spPr>
          <a:xfrm>
            <a:off x="219564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10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10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10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10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10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10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8" dur="1000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Oltre la “normalizzazione apparente”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c00000"/>
                </a:solidFill>
                <a:latin typeface="Tw Cen MT"/>
              </a:rPr>
              <a:t>LA SFID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c00000"/>
                </a:solidFill>
                <a:latin typeface="Tw Cen MT"/>
              </a:rPr>
              <a:t>coniugare 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0" name="Diagramma 3" descr=""/>
          <p:cNvPicPr/>
          <p:nvPr/>
        </p:nvPicPr>
        <p:blipFill>
          <a:blip r:embed="rId1"/>
          <a:stretch/>
        </p:blipFill>
        <p:spPr>
          <a:xfrm>
            <a:off x="1584360" y="2700360"/>
            <a:ext cx="61387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7" dur="2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bleuseul"/>
          <p:cNvPicPr/>
          <p:nvPr/>
        </p:nvPicPr>
        <p:blipFill>
          <a:blip r:embed="rId1"/>
          <a:stretch/>
        </p:blipFill>
        <p:spPr>
          <a:xfrm>
            <a:off x="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3"/>
          <p:cNvSpPr/>
          <p:nvPr/>
        </p:nvSpPr>
        <p:spPr>
          <a:xfrm>
            <a:off x="2500200" y="52862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entury Gothic"/>
              </a:rPr>
              <a:t>Graz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9" dur="5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4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w Cen MT"/>
              </a:rPr>
              <a:t>Migrazioni e generazioni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00000"/>
                </a:solidFill>
                <a:latin typeface="Tw Cen MT"/>
              </a:rPr>
              <a:t>Minori, “figli dell’immigrazione”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280" y="1600200"/>
            <a:ext cx="8226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I minori stranieri sono oggi circa 1 milione, il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9,7% </a:t>
            </a: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del totale dei minori,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il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 24,1% </a:t>
            </a: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degli stranieri resident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Nel 2012 si registrano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80mila nuovi nati da genitori stranieri; </a:t>
            </a: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l’incidenza delle nascite di bambini stranieri sul totale dei nati è passata dal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4,8%</a:t>
            </a: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 del 2000 al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14,5%</a:t>
            </a:r>
            <a:r>
              <a:rPr b="0" lang="it-IT" sz="20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del 2012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Nella scuola, il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44,2%</a:t>
            </a:r>
            <a:r>
              <a:rPr b="0" lang="it-IT" sz="20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degli alunni con cittadinanza non italiana è</a:t>
            </a:r>
            <a:r>
              <a:rPr b="0" lang="it-IT" sz="20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it-IT" sz="2000" spc="-1" strike="noStrike">
                <a:solidFill>
                  <a:srgbClr val="c00000"/>
                </a:solidFill>
                <a:latin typeface="Tw Cen MT"/>
              </a:rPr>
              <a:t>nato in Italia, </a:t>
            </a:r>
            <a:r>
              <a:rPr b="0" lang="it-IT" sz="2000" spc="-1" strike="noStrike">
                <a:solidFill>
                  <a:srgbClr val="000000"/>
                </a:solidFill>
                <a:latin typeface="Tw Cen MT"/>
              </a:rPr>
              <a:t>con un aumento negli ultimi 4 anni del 9% nella scuola dell’infanzia, del 13% nella scuola primaria, del 10% nella secondaria di I grado, del 3,4% nella secondaria di II gra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Tw Cen MT"/>
                <a:ea typeface="Verdana"/>
              </a:rPr>
              <a:t>Una realtà complessa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Tw Cen MT"/>
                <a:ea typeface="Verdana"/>
              </a:rPr>
              <a:t>variegata, eterogenea per condizioni e possibilità di vita, aspettative, legami, risorse materiali e simbolich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20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29BE-CECD-49E9-8F76-99242D8575DE}" type="slidenum">
              <a:rPr b="1" lang="it-IT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Tw Cen MT"/>
                <a:ea typeface="Verdana"/>
              </a:rPr>
              <a:t>Tra 1a e 2a generazione: </a:t>
            </a:r>
            <a:br>
              <a:rPr sz="3600"/>
            </a:br>
            <a:r>
              <a:rPr b="1" lang="it-IT" sz="3600" spc="-1" strike="noStrike">
                <a:solidFill>
                  <a:srgbClr val="c00000"/>
                </a:solidFill>
                <a:latin typeface="Tw Cen MT"/>
                <a:ea typeface="Verdana"/>
              </a:rPr>
              <a:t>i “tempi” delle generazioni migranti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w Cen MT"/>
                <a:ea typeface="Verdana"/>
              </a:rPr>
              <a:t>Rumbaut (1996) distingue le diverse coorti di minori migranti in relazione all’età di arrivo nel paese di accoglienz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w Cen MT"/>
                <a:ea typeface="Verdana"/>
              </a:rPr>
              <a:t>più di 14 anni: generazione 1.2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w Cen MT"/>
                <a:ea typeface="Verdana"/>
              </a:rPr>
              <a:t>Tra 7 e 13 anni: generazione 1.5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w Cen MT"/>
                <a:ea typeface="Verdana"/>
              </a:rPr>
              <a:t>Tra 1 e 6 anni: generazione 1.7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w Cen MT"/>
                <a:ea typeface="Verdana"/>
              </a:rPr>
              <a:t>Nati nel paese di arrivo: generazione 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Verdana"/>
                <a:ea typeface="Verdana"/>
              </a:rPr>
              <a:t>Una distinzione che può apparire limitativa, perché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Verdana"/>
                <a:ea typeface="Verdana"/>
              </a:rPr>
              <a:t>legata in modo esclusivo al percorso migratorio e n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00000"/>
                </a:solidFill>
                <a:latin typeface="Verdana"/>
                <a:ea typeface="Verdana"/>
              </a:rPr>
              <a:t>anche  e soprattutto all’esperienza del soggetto e alle sue capacità di elaborazione e di adattament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10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Verdana"/>
                <a:ea typeface="Verdana"/>
              </a:rPr>
              <a:t>Le « nuove generazioni »  di stranieri</a:t>
            </a:r>
            <a:endParaRPr b="0" lang="en-US" sz="32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640" y="1598400"/>
            <a:ext cx="8142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Una </a:t>
            </a:r>
            <a:r>
              <a:rPr b="1" i="1" lang="fr-FR" sz="2000" spc="-1" strike="noStrike">
                <a:solidFill>
                  <a:srgbClr val="c00000"/>
                </a:solidFill>
                <a:latin typeface="Verdana"/>
                <a:ea typeface="Verdana"/>
              </a:rPr>
              <a:t>comunanza generazionale</a:t>
            </a:r>
            <a:r>
              <a:rPr b="1" lang="fr-FR" sz="2000" spc="-1" strike="noStrike">
                <a:solidFill>
                  <a:srgbClr val="c00000"/>
                </a:solidFill>
                <a:latin typeface="Verdana"/>
                <a:ea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piuttosto che una distinzione temporale secondo l’ordine di arrivo (prima, seconda, terza generazione …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Un’esperienza generazionale che presenta quindi </a:t>
            </a:r>
            <a:r>
              <a:rPr b="1" lang="fr-FR" sz="2000" spc="-1" strike="noStrike">
                <a:solidFill>
                  <a:srgbClr val="c00000"/>
                </a:solidFill>
                <a:latin typeface="Verdana"/>
                <a:ea typeface="Verdana"/>
              </a:rPr>
              <a:t>tratti comuni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 in termini di esperienze, problemi da affrontare, humus culturale e sociale 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Una </a:t>
            </a:r>
            <a:r>
              <a:rPr b="1" i="1" lang="fr-FR" sz="2000" spc="-1" strike="noStrike">
                <a:solidFill>
                  <a:srgbClr val="c00000"/>
                </a:solidFill>
                <a:latin typeface="Verdana"/>
                <a:ea typeface="Verdana"/>
              </a:rPr>
              <a:t>comunanza con le nuove generazioni autoctone</a:t>
            </a:r>
            <a:r>
              <a:rPr b="1" lang="fr-FR" sz="2000" spc="-1" strike="noStrike">
                <a:solidFill>
                  <a:srgbClr val="c00000"/>
                </a:solidFill>
                <a:latin typeface="Verdana"/>
                <a:ea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dei paesi di arrivo, data da problematiche simili: identità, appartenenza, mélange culturale,  mobilità territoriale, cognitiva, relaziona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Ma anche una </a:t>
            </a:r>
            <a:r>
              <a:rPr b="1" i="1" lang="fr-FR" sz="2000" spc="-1" strike="noStrike">
                <a:solidFill>
                  <a:srgbClr val="c00000"/>
                </a:solidFill>
                <a:latin typeface="Verdana"/>
                <a:ea typeface="Verdana"/>
              </a:rPr>
              <a:t>differenza</a:t>
            </a:r>
            <a:r>
              <a:rPr b="1" i="1" lang="fr-FR" sz="2000" spc="-1" strike="noStrike">
                <a:solidFill>
                  <a:srgbClr val="ffff66"/>
                </a:solidFill>
                <a:latin typeface="Verdana"/>
                <a:ea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  <a:ea typeface="Verdana"/>
              </a:rPr>
              <a:t>di esperienze culturali, aspettative, motivazioni, progetti di vi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8153280" cy="25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00000"/>
                </a:solidFill>
                <a:latin typeface="Tw Cen MT"/>
              </a:rPr>
              <a:t>… </a:t>
            </a:r>
            <a:r>
              <a:rPr b="0" lang="it-IT" sz="4400" spc="-1" strike="noStrike">
                <a:solidFill>
                  <a:srgbClr val="c00000"/>
                </a:solidFill>
                <a:latin typeface="Tw Cen MT"/>
              </a:rPr>
              <a:t>si fa strada un </a:t>
            </a:r>
            <a:r>
              <a:rPr b="1" i="1" lang="it-IT" sz="4400" spc="-1" strike="noStrike">
                <a:solidFill>
                  <a:srgbClr val="c00000"/>
                </a:solidFill>
                <a:latin typeface="Tw Cen MT"/>
              </a:rPr>
              <a:t>nuovo paradigma </a:t>
            </a:r>
            <a:r>
              <a:rPr b="0" lang="it-IT" sz="4400" spc="-1" strike="noStrike">
                <a:solidFill>
                  <a:srgbClr val="c00000"/>
                </a:solidFill>
                <a:latin typeface="Tw Cen MT"/>
              </a:rPr>
              <a:t>di interpretazione dei processi di inclusione e integrazione …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8584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Tw Cen MT"/>
              </a:rPr>
              <a:t>Crisi del modello assimilazionista</a:t>
            </a:r>
            <a:endParaRPr b="0" lang="en-US" sz="36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L’assimilazione  contempla solo la direzione verso la cultura di accoglienz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Ipotizza l’esistenza di un modello culturale unitario, dominante e coercitivo della cultura autocto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Non considera la reciproca influenza del contatto tra cul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Non considera la variabilità e le strategie plurime e diversificate dei soggetti e dei gruppi (</a:t>
            </a:r>
            <a:r>
              <a:rPr b="1" i="1" lang="it-IT" sz="2900" spc="-1" strike="noStrike">
                <a:solidFill>
                  <a:srgbClr val="c00000"/>
                </a:solidFill>
                <a:latin typeface="Tw Cen MT"/>
              </a:rPr>
              <a:t>agency del soggetto</a:t>
            </a: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8:21:22Z</dcterms:created>
  <dc:creator>Elena Besozzi</dc:creator>
  <dc:description/>
  <dc:language>en-US</dc:language>
  <cp:lastModifiedBy>Elena Besozzi</cp:lastModifiedBy>
  <dcterms:modified xsi:type="dcterms:W3CDTF">2013-09-27T06:39:18Z</dcterms:modified>
  <cp:revision>109</cp:revision>
  <dc:subject/>
  <dc:title>Diapositiva 1</dc:title>
</cp:coreProperties>
</file>